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4E0-5631-4F94-8165-03489EC3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BEA-604F-4CCB-BAC6-797C1897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179-A4FF-40F3-87FA-2349524A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FAF-978B-4687-BDEF-6341B6E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22E-0D95-421F-9EB1-91BCB6B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3C8-73C4-4372-ACED-CE7113DA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710-64C7-415A-BF8E-CD18BC9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382-5661-4873-9F5B-7D61301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9A2-73F2-4316-B851-D84DC619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A88-8265-457E-A283-929A230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6AE-7FA3-4000-AE55-79C7FE8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098-E20F-4F57-9B0C-21FF75C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7C35-3AFA-401F-827A-E7FC4867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 stare at happ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glar.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65600">
            <a:off x="5562360" y="3206160"/>
            <a:ext cx="1636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excite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3:10Z</dcterms:modified>
  <cp:revision>3</cp:revision>
  <dc:subject/>
  <dc:title>PowerPoint Presentation</dc:title>
</cp:coreProperties>
</file>